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0F02F-86B4-4FED-994A-6895F3EBA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82FD4-6B2A-4729-829F-67B0C4EF1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F194B-DF0A-4E3A-9242-9FB4888C9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12F32-0098-4996-812A-63D89D9F2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8CF2B-2089-410E-927B-CCDCEC346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AFB1-19DC-4325-9B0E-A9DBD304E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8CCB0-564A-43C6-9493-0B13BD350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81057-3A32-4F10-9358-B9C34EF67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7FD5F-5000-4C49-A1EA-593487FE2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2EBD7-9420-47EC-84C3-4F0FA2A30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66CFD-62DA-48C4-A815-2C42A7679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CE53C-5E83-42BF-B50D-3EE40E759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3E3F-A2FB-46E3-9696-C767DF98DD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CÁC CÔNG VIỆC SẼ ĐẨY MẠNH</a:t>
            </a:r>
            <a:br>
              <a:rPr sz="2800"/>
            </a:br>
            <a:r>
              <a:rPr b="1" lang="en-US" sz="2800" spc="-1" strike="noStrike">
                <a:solidFill>
                  <a:srgbClr val="002060"/>
                </a:solidFill>
                <a:latin typeface="Arial"/>
              </a:rPr>
              <a:t>THỰC HIỆN TRONG NĂM HỌC 2016-20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122400" y="-360"/>
            <a:ext cx="8991360" cy="6705720"/>
          </a:xfrm>
          <a:prstGeom prst="rect">
            <a:avLst/>
          </a:prstGeom>
          <a:noFill/>
          <a:ln w="0">
            <a:noFill/>
          </a:ln>
        </p:spPr>
        <p:txBody>
          <a:bodyPr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000066"/>
                </a:solidFill>
                <a:latin typeface="Arial"/>
              </a:rPr>
              <a:t>	</a:t>
            </a:r>
            <a:endParaRPr b="0" lang="en-US" sz="2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000066"/>
                </a:solidFill>
                <a:latin typeface="Times New Roman"/>
                <a:ea typeface="Times New Roman"/>
              </a:rPr>
              <a:t>	</a:t>
            </a:r>
            <a:r>
              <a:rPr b="0" lang="es-BO" sz="2800" spc="-1" strike="noStrike">
                <a:solidFill>
                  <a:srgbClr val="000066"/>
                </a:solidFill>
                <a:latin typeface="Times New Roman"/>
                <a:ea typeface="Times New Roman"/>
              </a:rPr>
              <a:t>1. Tiếp tục thực hiện kiểm tra việc thực hiện nhiệm vụ giáo dục trung học ở các trường trung học, phòng giáo dục và đào tạo. Kiểm tra công tác quản lý, khai thác, sử dụng, bảo quản thiết bị dạy học. Quan tâm đến công tác dạy học và quản lý tại các trường THCS.</a:t>
            </a:r>
            <a:endParaRPr b="0" lang="en-US" sz="2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s-BO" sz="2800" spc="-1" strike="noStrike">
                <a:solidFill>
                  <a:srgbClr val="000066"/>
                </a:solidFill>
                <a:latin typeface="Times New Roman"/>
                <a:ea typeface="Times New Roman"/>
              </a:rPr>
              <a:t>2. Đổi mới công tác chuyên môn</a:t>
            </a:r>
            <a:endParaRPr b="0" lang="en-US" sz="28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	</a:t>
            </a:r>
            <a:r>
              <a:rPr b="0" lang="en-US" sz="2800" spc="-1" strike="noStrike">
                <a:solidFill>
                  <a:srgbClr val="000066"/>
                </a:solidFill>
                <a:latin typeface="Times New Roman"/>
                <a:ea typeface="Times New Roman"/>
              </a:rPr>
              <a:t>2.1. Chủ đề tích hợp liên môn</a:t>
            </a:r>
            <a:endParaRPr b="0" lang="en-US" sz="28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	</a:t>
            </a:r>
            <a:r>
              <a:rPr b="0" lang="en-US" sz="2800" spc="-1" strike="noStrike">
                <a:solidFill>
                  <a:srgbClr val="000066"/>
                </a:solidFill>
                <a:latin typeface="Times New Roman"/>
                <a:ea typeface="Times New Roman"/>
              </a:rPr>
              <a:t>- Dạy học theo chủ đề tích hợp (2 chủ đề/ học kỳ/môn). </a:t>
            </a:r>
            <a:endParaRPr b="0" lang="en-US" sz="28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	</a:t>
            </a:r>
            <a:r>
              <a:rPr b="0" lang="en-US" sz="2800" spc="-1" strike="noStrike">
                <a:solidFill>
                  <a:srgbClr val="000066"/>
                </a:solidFill>
                <a:latin typeface="Times New Roman"/>
                <a:ea typeface="Times New Roman"/>
              </a:rPr>
              <a:t>- Tham gia cuộc thi dạy học tích hợp liên môn (dành cho giáo viên) và cuộc thi vận dụng kiến thức liên môn để giải quyết các vấn đề thực tiễn (dành cho học sinh).</a:t>
            </a:r>
            <a:endParaRPr b="0" lang="en-US" sz="28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	</a:t>
            </a:r>
            <a:r>
              <a:rPr b="0" lang="en-US" sz="2800" spc="-1" strike="noStrike">
                <a:solidFill>
                  <a:srgbClr val="000066"/>
                </a:solidFill>
                <a:latin typeface="Times New Roman"/>
                <a:ea typeface="Times New Roman"/>
              </a:rPr>
              <a:t>- Tổ chức báo cáo chuyên đề theo các chủ đề tích hợp đã được giải cấp tỉnh, cấp quốc gia</a:t>
            </a:r>
            <a:r>
              <a:rPr b="0" lang="en-US" sz="2400" spc="-1" strike="noStrike">
                <a:solidFill>
                  <a:srgbClr val="0000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2">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2">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42">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122400" y="0"/>
            <a:ext cx="8991360" cy="63244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002060"/>
                </a:solidFill>
                <a:latin typeface="Arial"/>
              </a:rPr>
              <a:t>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00206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2.2. Xây dựng kế hoạch dạy học phù hợp với các chủ đề theo hình thức và kỹ thuật dạy học tích cực. Duyệt và nộp kế hoạch dạy học về Sở GDĐT/Phòng GDĐ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2.3. Tổ chức các hoạt động trải nghiệm sáng tạo; nhà trường gắn liền với sản xuất phù hợp với thực tiễn địa phương.</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2.4. Sử dụng có hiệu quả trường học kết nối trong tổ chức sinh hoạt chuyên môn, bồi dưỡng giáo viên,…</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2.5. Tham gia các kỳ thi học sinh giỏi cấp tỉnh, Cuộc thi khoa học kỹ thuật với số lượng đúng quy định.</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122400" y="0"/>
            <a:ext cx="8991360" cy="632448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002060"/>
                </a:solidFill>
                <a:latin typeface="Arial"/>
              </a:rPr>
              <a:t>	</a:t>
            </a:r>
            <a:endParaRPr b="0" lang="en-US" sz="24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002060"/>
                </a:solidFill>
                <a:latin typeface="Times New Roman"/>
                <a:ea typeface="Times New Roman"/>
              </a:rPr>
              <a:t>	</a:t>
            </a:r>
            <a:r>
              <a:rPr b="0" lang="es-BO" sz="2800" spc="-1" strike="noStrike">
                <a:solidFill>
                  <a:srgbClr val="002060"/>
                </a:solidFill>
                <a:latin typeface="Times New Roman"/>
                <a:ea typeface="Times New Roman"/>
              </a:rPr>
              <a:t>3. Tổ chức triển khai các tập huấn về dạy học tích hợp, đổi mới chương trình, SGK của Bộ Giáo dục và Đào tạo đến từng Phòng GDĐT. Tổ chức trao đổi thảo luận về những vấn đề mới trong các nội dung chỉ đạo của Bộ GDĐT về đổi mới nội dung, chương trình sách giáo khoa trong sinh hoạt tổ chuyên môn theo từng trường/cụm trường.</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800" spc="-1" strike="noStrike">
                <a:solidFill>
                  <a:srgbClr val="002060"/>
                </a:solidFill>
                <a:latin typeface="Times New Roman"/>
                <a:ea typeface="Times New Roman"/>
              </a:rPr>
              <a:t>	</a:t>
            </a:r>
            <a:r>
              <a:rPr b="0" lang="es-BO" sz="2800" spc="-1" strike="noStrike">
                <a:solidFill>
                  <a:srgbClr val="002060"/>
                </a:solidFill>
                <a:latin typeface="Times New Roman"/>
                <a:ea typeface="Times New Roman"/>
              </a:rPr>
              <a:t>4. Quan tâm thúc đẩy công tác Trường chuẩn, Đề án ngoại ngữ (bồi dưỡng chuẩn hóa, dạy Tiếng Anh thí điểm), dạy học 2 buổi/ngày, phổ cập GD THCS.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800" spc="-1" strike="noStrike">
                <a:solidFill>
                  <a:srgbClr val="002060"/>
                </a:solidFill>
                <a:latin typeface="Times New Roman"/>
                <a:ea typeface="Times New Roman"/>
              </a:rPr>
              <a:t>	</a:t>
            </a:r>
            <a:r>
              <a:rPr b="0" lang="es-BO" sz="2800" spc="-1" strike="noStrike">
                <a:solidFill>
                  <a:srgbClr val="002060"/>
                </a:solidFill>
                <a:latin typeface="Times New Roman"/>
                <a:ea typeface="Times New Roman"/>
              </a:rPr>
              <a:t>5. Tổ chức tốt các hoạt động thường niên và định kỳ: Thi HSG, tuyển chọn đội tuyển thi học sinh giỏi quốc gia, Hội thao GDQP cấp tỉnh (cấp quốc gia), tổ chức thi OTE toàn quốc, thi tích hợp liên môn và các cuộc thi khác do Bộ và Tỉnh phát động…</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122400" y="0"/>
            <a:ext cx="8991360" cy="63244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002060"/>
                </a:solidFill>
                <a:latin typeface="Arial"/>
              </a:rPr>
              <a:t>	</a:t>
            </a:r>
            <a:endParaRPr b="0" lang="en-US" sz="24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BO" sz="2400" spc="-1" strike="noStrike">
                <a:solidFill>
                  <a:srgbClr val="002060"/>
                </a:solidFill>
                <a:latin typeface="Times New Roman"/>
                <a:ea typeface="Times New Roman"/>
              </a:rPr>
              <a:t>	</a:t>
            </a:r>
            <a:r>
              <a:rPr b="0" lang="es-BO" sz="2800" spc="-1" strike="noStrike">
                <a:solidFill>
                  <a:srgbClr val="002060"/>
                </a:solidFill>
                <a:latin typeface="Times New Roman"/>
                <a:ea typeface="Times New Roman"/>
              </a:rPr>
              <a:t>6. Chỉ đạo ôn tập kiểm tra học kỳ, xét công nhận tốt nghiệp THCS, ôn tập thi THPT quốc gia. Sở tổ chức kiểm tra học kỳ chung đối với lớp 9 cấp THCS toàn tỉnh. Phòng GDĐT, trường THCS trực thuộc ra đề các khối còn lại. Các trường THPT ra đề kiểm tra các khối lớp.</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2T04:38:54Z</dcterms:created>
  <dc:creator>Phuc Anh Computer</dc:creator>
  <dc:description/>
  <dc:language>en-US</dc:language>
  <cp:lastModifiedBy>Vien Tuong</cp:lastModifiedBy>
  <dcterms:modified xsi:type="dcterms:W3CDTF">2016-09-19T15:00:59Z</dcterms:modified>
  <cp:revision>15</cp:revision>
  <dc:subject/>
  <dc:title>Slides cho dạy học NĂNG LỰC THÍCH ỨNG</dc:title>
</cp:coreProperties>
</file>